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FCD-ADB1-45AB-9A53-39338258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DDA-89E7-4B56-B939-0241D439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2D6-8D03-4BB3-B84D-369C440F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A94-9DDF-4B37-830E-EFDAF461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8F4-566A-49F4-9DBD-209C2DD9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DFB-B1A9-4AC2-AA83-AF4291EB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855-2C0E-4F65-A846-773B3F8F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ED2-E0AD-4771-97D5-8F93B4AF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C3B-9629-43E3-9E7E-5B60852D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8BF-29CD-40D3-AB6E-A734A6D0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21E-BF71-4273-820D-69E26ACE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0BD-D242-49E7-81E8-AF508B81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254D-A7A7-4883-8341-CABD63A11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-433440" y="-55440"/>
            <a:ext cx="6267600" cy="5273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5334120" y="228600"/>
            <a:ext cx="3657600" cy="1465560"/>
          </a:xfrm>
          <a:prstGeom prst="rect">
            <a:avLst/>
          </a:prstGeom>
          <a:solidFill>
            <a:srgbClr val="558ed5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ollection of technologies for automatically distributing audio and video programs over the internet.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dcast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the person who creates the conten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pc.png"/>
          <p:cNvPicPr/>
          <p:nvPr/>
        </p:nvPicPr>
        <p:blipFill>
          <a:blip r:embed="rId2"/>
          <a:stretch/>
        </p:blipFill>
        <p:spPr>
          <a:xfrm>
            <a:off x="6248520" y="3886200"/>
            <a:ext cx="2619360" cy="2619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5410080" y="2819520"/>
            <a:ext cx="358164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 my IPod to listen to podcasts of my favorite radio sh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533520" y="4724280"/>
            <a:ext cx="5105160" cy="173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dcasts in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Student presen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nterviews with guest speak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As a way for students that are absent to h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ctures and instruct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News and updates for 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7:44:36Z</dcterms:created>
  <dc:creator>RRISD</dc:creator>
  <dc:description/>
  <dc:language>en-US</dc:language>
  <cp:lastModifiedBy>RRISD</cp:lastModifiedBy>
  <dcterms:modified xsi:type="dcterms:W3CDTF">2009-03-11T18:08:42Z</dcterms:modified>
  <cp:revision>3</cp:revision>
  <dc:subject/>
  <dc:title>Slide 1</dc:title>
</cp:coreProperties>
</file>